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8.jpeg" ContentType="image/jpeg"/>
  <Override PartName="/ppt/media/image9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3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Click to move the slide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4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5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E93D0-1D40-42C4-BB13-A023FF74E2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5D5D2-56CD-4952-8961-BAC3EBAE5E1A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F93877-C930-40A8-A795-D8C7C578D0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F6E63E-5A16-4BF2-9763-8C9236A2D7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557BFC-2C56-4435-9665-73D03DF4E0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E6AB0D-03AF-4DE1-AAE5-47EBCA4032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1FFE3C-4E2E-4215-8FC5-C8145B9D31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B2E1B0-132C-4FD5-BFFF-8F20EAC7CC0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BEFB47-CF3D-46AF-8BC0-73617A9054D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5AB8D4-6267-48CF-AC0E-B08171334F6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749AFA-2CD9-4E15-ABF5-AD1DFA3C105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8EF9A0-84BE-4472-BDD9-7233DDF7FD7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CCAFE6-B61A-4636-AF26-AEEE5810CAB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5CE0F6-C1F5-4CF9-B402-D1FB0415A30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EF56E5-221B-4E67-A9E7-AFC2CBAD31A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E08D29-CC97-44B3-99D4-DBC451FDD6C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12D277-BC20-4D81-B715-E1761887493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1AC2C6-B3BF-4E4F-8561-7AA590FD12D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D295B0-4B79-451B-8762-4573BFED25E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9690E6-E9AF-49CA-AB44-C953FF5D6018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BD9AAF-9659-4D59-AC30-DB0270334AF9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D87C5C-A1F8-4385-B040-3C37CCA531D7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1B9DF5-1BB9-44D3-9366-0A7559955085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49F29A-C77C-4388-9715-0B65BEE181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A209C8-0B18-41D0-91E0-46F9F308F6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50A2FB-8EC0-4811-9EB6-AAD8070CC5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8631000" y="6421320"/>
            <a:ext cx="56880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2CD08-1951-4681-9871-865493824E3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" descr=""/>
          <p:cNvPicPr/>
          <p:nvPr/>
        </p:nvPicPr>
        <p:blipFill>
          <a:blip r:embed="rId3"/>
          <a:stretch/>
        </p:blipFill>
        <p:spPr>
          <a:xfrm>
            <a:off x="0" y="-58680"/>
            <a:ext cx="9144000" cy="1353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1" descr=""/>
          <p:cNvPicPr/>
          <p:nvPr/>
        </p:nvPicPr>
        <p:blipFill>
          <a:blip r:embed="rId3"/>
          <a:stretch/>
        </p:blipFill>
        <p:spPr>
          <a:xfrm>
            <a:off x="0" y="-58680"/>
            <a:ext cx="9144000" cy="1353960"/>
          </a:xfrm>
          <a:prstGeom prst="rect">
            <a:avLst/>
          </a:prstGeom>
          <a:ln w="0">
            <a:noFill/>
          </a:ln>
        </p:spPr>
      </p:pic>
      <p:grpSp>
        <p:nvGrpSpPr>
          <p:cNvPr id="39" name="Group 3"/>
          <p:cNvGrpSpPr/>
          <p:nvPr/>
        </p:nvGrpSpPr>
        <p:grpSpPr>
          <a:xfrm>
            <a:off x="2327400" y="5987880"/>
            <a:ext cx="3943080" cy="606600"/>
            <a:chOff x="2327400" y="5987880"/>
            <a:chExt cx="3943080" cy="606600"/>
          </a:xfrm>
        </p:grpSpPr>
        <p:pic>
          <p:nvPicPr>
            <p:cNvPr id="40" name="Picture 4" descr=""/>
            <p:cNvPicPr/>
            <p:nvPr/>
          </p:nvPicPr>
          <p:blipFill>
            <a:blip r:embed="rId4"/>
            <a:stretch/>
          </p:blipFill>
          <p:spPr>
            <a:xfrm>
              <a:off x="5162400" y="6121800"/>
              <a:ext cx="1108080" cy="33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" name="Picture 5" descr=""/>
            <p:cNvPicPr/>
            <p:nvPr/>
          </p:nvPicPr>
          <p:blipFill>
            <a:blip r:embed="rId5"/>
            <a:stretch/>
          </p:blipFill>
          <p:spPr>
            <a:xfrm>
              <a:off x="3222720" y="6168600"/>
              <a:ext cx="1561320" cy="24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" name="Picture 6" descr=""/>
            <p:cNvPicPr/>
            <p:nvPr/>
          </p:nvPicPr>
          <p:blipFill>
            <a:blip r:embed="rId6"/>
            <a:stretch/>
          </p:blipFill>
          <p:spPr>
            <a:xfrm>
              <a:off x="2327400" y="5987880"/>
              <a:ext cx="511200" cy="6066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1" descr=""/>
          <p:cNvPicPr/>
          <p:nvPr/>
        </p:nvPicPr>
        <p:blipFill>
          <a:blip r:embed="rId3"/>
          <a:stretch/>
        </p:blipFill>
        <p:spPr>
          <a:xfrm>
            <a:off x="0" y="-58680"/>
            <a:ext cx="9144000" cy="135396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sldNum" idx="2"/>
          </p:nvPr>
        </p:nvSpPr>
        <p:spPr>
          <a:xfrm>
            <a:off x="8706960" y="6421320"/>
            <a:ext cx="64476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77F68-EEC9-4834-931C-384A032657A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1" descr=""/>
          <p:cNvPicPr/>
          <p:nvPr/>
        </p:nvPicPr>
        <p:blipFill>
          <a:blip r:embed="rId3"/>
          <a:stretch/>
        </p:blipFill>
        <p:spPr>
          <a:xfrm>
            <a:off x="0" y="-58680"/>
            <a:ext cx="9144000" cy="1353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1" descr=""/>
          <p:cNvPicPr/>
          <p:nvPr/>
        </p:nvPicPr>
        <p:blipFill>
          <a:blip r:embed="rId3"/>
          <a:stretch/>
        </p:blipFill>
        <p:spPr>
          <a:xfrm>
            <a:off x="0" y="-58680"/>
            <a:ext cx="9144000" cy="1353960"/>
          </a:xfrm>
          <a:prstGeom prst="rect">
            <a:avLst/>
          </a:prstGeom>
          <a:ln w="0">
            <a:noFill/>
          </a:ln>
        </p:spPr>
      </p:pic>
      <p:sp>
        <p:nvSpPr>
          <p:cNvPr id="155" name="TextBox 3"/>
          <p:cNvSpPr/>
          <p:nvPr/>
        </p:nvSpPr>
        <p:spPr>
          <a:xfrm>
            <a:off x="0" y="213372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56734"/>
                </a:solidFill>
                <a:latin typeface="Calibri"/>
              </a:rPr>
              <a:t>Africa Research in Sustainable Intensification for the Next Gener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6734"/>
                </a:solidFill>
                <a:latin typeface="Calibri"/>
              </a:rPr>
              <a:t>africa-rising.n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6" name="Picture 4" descr="AR_WA_partners.jpg"/>
          <p:cNvPicPr/>
          <p:nvPr/>
        </p:nvPicPr>
        <p:blipFill>
          <a:blip r:embed="rId4"/>
          <a:stretch/>
        </p:blipFill>
        <p:spPr>
          <a:xfrm>
            <a:off x="1295280" y="3809880"/>
            <a:ext cx="6782040" cy="247176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Click to edit the title text format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004760" indent="-228600">
              <a:spcBef>
                <a:spcPts val="45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279440" indent="-228600">
              <a:spcBef>
                <a:spcPts val="40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4" marL="1554120" indent="-228600">
              <a:spcBef>
                <a:spcPts val="34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5" marL="1554120" indent="-22860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6" marL="1554120" indent="-22860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684360" y="1752120"/>
            <a:ext cx="777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8784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ntensifying Livestock Production (Theme 3)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8784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Overview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539280" y="907560"/>
            <a:ext cx="762012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Calibri"/>
              </a:rPr>
              <a:t>3. Mileston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2" name="Picture 3" descr="IMG00556-20120925-1305"/>
          <p:cNvPicPr/>
          <p:nvPr/>
        </p:nvPicPr>
        <p:blipFill>
          <a:blip r:embed="rId1"/>
          <a:stretch/>
        </p:blipFill>
        <p:spPr>
          <a:xfrm>
            <a:off x="1258920" y="1770120"/>
            <a:ext cx="3090960" cy="189540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4" descr="Figure 1"/>
          <p:cNvPicPr/>
          <p:nvPr/>
        </p:nvPicPr>
        <p:blipFill>
          <a:blip r:embed="rId2"/>
          <a:stretch/>
        </p:blipFill>
        <p:spPr>
          <a:xfrm>
            <a:off x="4349880" y="1790640"/>
            <a:ext cx="3024000" cy="187488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5" descr="IMG00565-20120925-1354"/>
          <p:cNvPicPr/>
          <p:nvPr/>
        </p:nvPicPr>
        <p:blipFill>
          <a:blip r:embed="rId3"/>
          <a:stretch/>
        </p:blipFill>
        <p:spPr>
          <a:xfrm>
            <a:off x="1258920" y="3665520"/>
            <a:ext cx="3090960" cy="206712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6" descr="wagashibrine"/>
          <p:cNvPicPr/>
          <p:nvPr/>
        </p:nvPicPr>
        <p:blipFill>
          <a:blip r:embed="rId4"/>
          <a:stretch/>
        </p:blipFill>
        <p:spPr>
          <a:xfrm>
            <a:off x="4335480" y="3675240"/>
            <a:ext cx="3024000" cy="2047680"/>
          </a:xfrm>
          <a:prstGeom prst="rect">
            <a:avLst/>
          </a:prstGeom>
          <a:ln w="0">
            <a:noFill/>
          </a:ln>
        </p:spPr>
      </p:pic>
      <p:sp>
        <p:nvSpPr>
          <p:cNvPr id="226" name="Rectangle 1"/>
          <p:cNvSpPr/>
          <p:nvPr/>
        </p:nvSpPr>
        <p:spPr>
          <a:xfrm>
            <a:off x="1042920" y="5877000"/>
            <a:ext cx="61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raining of milk processors in “Wagashi”  (soft cheese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539280" y="907560"/>
            <a:ext cx="762012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Calibri"/>
              </a:rPr>
              <a:t>3. Mileston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TextBox 2"/>
          <p:cNvSpPr/>
          <p:nvPr/>
        </p:nvSpPr>
        <p:spPr>
          <a:xfrm>
            <a:off x="684360" y="1601640"/>
            <a:ext cx="7056360" cy="381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chievements – Ghan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valuation of existing and potential feed resources using FEAST in six intervention communities in the 3 regions of Northern Ghana. Surveys on feed market potential in 3 regions in Ghan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servation techniques for efficient use of crop residues as animal fe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ssessment of promising livestock value chains in 3 regions  - Guinea fowl in Northern, small ruminants in Upper West and pig in Upper East reg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3 MSc students from University of Ghana, Legon completed their thesis; 1 PhD student (UDS Tamale) completed field work and preparing for his defen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539280" y="907560"/>
            <a:ext cx="762012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Calibri"/>
              </a:rPr>
              <a:t>3. Mileston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TextBox 2"/>
          <p:cNvSpPr/>
          <p:nvPr/>
        </p:nvSpPr>
        <p:spPr>
          <a:xfrm>
            <a:off x="684360" y="1601640"/>
            <a:ext cx="820872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chievements – Mal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iagnosis of baseline situation with respect to biophysical, socio-economic and institutional profiles of the study sites, and the production systems (crop, livestock &amp; agroforestry) in Bougouni and Koutiala, Mali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ynthesis report on review of existing land use plans and local conventions in Bougouni and Koutiala districts, Mal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ssessment of feed resources and constraints to livestock production in six intervention communities in Bougouni and Koutiala districts using FEAST (Feed Assessment Tool) developed by ILR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nalysis of strength and weakness of local institutions governing natural resources, and strategies to strengthen th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ocumentation of transhumance practices and the effects on natural resource management in the six intervention communit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articipatory analysis of the immediate and long-term causes of conflict over natural resource use and identification of  options to reduce conflicts and associated problem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539280" y="907560"/>
            <a:ext cx="762012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Calibri"/>
              </a:rPr>
              <a:t>3. Mileston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TextBox 2"/>
          <p:cNvSpPr/>
          <p:nvPr/>
        </p:nvSpPr>
        <p:spPr>
          <a:xfrm>
            <a:off x="684360" y="1601640"/>
            <a:ext cx="820872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chievements – Mal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monstration of chopping machine for conservation of crop residues and better utiliz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977400" y="1052280"/>
            <a:ext cx="762012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Calibri"/>
              </a:rPr>
              <a:t>4. Major Gaps in Phase 1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TextBox 2"/>
          <p:cNvSpPr/>
          <p:nvPr/>
        </p:nvSpPr>
        <p:spPr>
          <a:xfrm>
            <a:off x="684360" y="1916280"/>
            <a:ext cx="8207280" cy="43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reed improvement, particularly community breeding schem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mproving household nutrition through animal source foo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mproving nutrient flows in crop-livestock syste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ivestock water productivity including rainwater harvest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moving drudgery in production (small scale mechanizatio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mproving smallholder milk production, value addition and utiliz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977400" y="1052280"/>
            <a:ext cx="762012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Calibri"/>
              </a:rPr>
              <a:t>5. Partner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TextBox 2"/>
          <p:cNvSpPr/>
          <p:nvPr/>
        </p:nvSpPr>
        <p:spPr>
          <a:xfrm>
            <a:off x="684360" y="1916280"/>
            <a:ext cx="8207280" cy="28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GIAR: ILRI, ICRIS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ARS: CSIR-Animal Research Institute, Ghana; IER Mali; UDS Tamale; KNUST Kumas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GO: AMEDD Mal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468360" y="836640"/>
            <a:ext cx="799128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144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00000"/>
                </a:solidFill>
                <a:latin typeface="Calibri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1. Baseline (Project Starting point in 2012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2. Evolution of Livestock Research for Development activi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3. Key Milestones (Achievements &amp; Lesson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4. Major Gaps in Phase 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5. Partn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380880" y="1987200"/>
            <a:ext cx="77724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orkshop to review constraints and opportunities for intensification of ruminant and non-ruminant production systems in northern Ghana (27-28 Aug 2012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mmunity analysis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(constraints &amp; opportunities to livestock production) in Ghan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Baseline survey in Mali in 201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Inventory of technologies for Quick Wins in 201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haracterization of 3 key livestock value chains (guinea fowl in Northern region, pig in Upper East and small ruminants in Upper West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826560" y="1052280"/>
            <a:ext cx="762012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Calibri"/>
              </a:rPr>
              <a:t>1. Baseline Informa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1042560" y="1052280"/>
            <a:ext cx="762012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Calibri"/>
              </a:rPr>
              <a:t>1. Baseline Informa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07" name="Objet 1"/>
          <p:cNvGraphicFramePr/>
          <p:nvPr/>
        </p:nvGraphicFramePr>
        <p:xfrm>
          <a:off x="2187720" y="2028960"/>
          <a:ext cx="4768560" cy="2800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8" name="Obje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87720" y="2028960"/>
                    <a:ext cx="4768560" cy="28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9" name="Rectangle 2"/>
          <p:cNvSpPr/>
          <p:nvPr/>
        </p:nvSpPr>
        <p:spPr>
          <a:xfrm>
            <a:off x="684360" y="4941720"/>
            <a:ext cx="727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Population pyramid of Fonfana Village in Koutiala in 2009/2010 (Source: Travail des enfants dans l’agriculture; total population 635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Rectangle 3"/>
          <p:cNvSpPr/>
          <p:nvPr/>
        </p:nvSpPr>
        <p:spPr>
          <a:xfrm>
            <a:off x="684360" y="5672160"/>
            <a:ext cx="7392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ith dominance of youthful population in both study sites, household labour for farming is a critical issu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hild nutrition is important in both Bougouni &amp; Koutiala in view of the significant proportion of the population that is childre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85680" y="1267920"/>
            <a:ext cx="887904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alibri"/>
              </a:rPr>
              <a:t>2. Evolution of Livestock Research for Develop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95280" y="1961640"/>
            <a:ext cx="77724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012: Testing of Quick Wins technologies – No coordinated research activi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012: On-station evaluation of some technologies e.g. non-conventional feeds for pigs and guinea fowl (replacing maize with false yam tuber meals for local pig Ashanti Black; replacing maize with false yam seed or sorghum spent grain (pito mash) for local guinea fowl; to replace maize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012: Baseline studies in Ghana and Mal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012: Capacity building – non-degree short term training for farmers and research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0" y="1287000"/>
            <a:ext cx="882000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alibri"/>
              </a:rPr>
              <a:t>2. Evolution of Livestock Research for Develop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94920" y="1844280"/>
            <a:ext cx="820908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013: Training in FEAST and evaluation of feed resour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013 -2016: On-farm testing and evaluation of technologies e.g. feed-health interventions in Ghan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2013 – 2016: PhD Research (1.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Nutrient use in smallholder livestock production systems in Northern Ghana;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2. Local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institutions governing NRM in Mali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2013-2014: Testing feed and housing options to improve productivity of rural poultry and pig syste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2014: Characterization of 3 key livestock value chains (guinea fowl in Northern region, pig in Upper East and small ruminants in Upper West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0" y="1287000"/>
            <a:ext cx="882000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alibri"/>
              </a:rPr>
              <a:t>2. Evolution of Livestock Research for Develop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94920" y="1844280"/>
            <a:ext cx="820908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2015-2016: Ensiling techniques for conservation of crop residues in Ghana – On=farm demonstration and training of farm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2016 – 2017: Piloting feed-health interventions in Mal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2015-2016: Development oriented activities 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laboration and formalization of local conventions in 3 communities in Bougouni and Koutiala, and demarcation of livestock routes; training in conflict manage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539280" y="907560"/>
            <a:ext cx="762012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Calibri"/>
              </a:rPr>
              <a:t>3. Mileston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TextBox 2"/>
          <p:cNvSpPr/>
          <p:nvPr/>
        </p:nvSpPr>
        <p:spPr>
          <a:xfrm>
            <a:off x="179280" y="1601640"/>
            <a:ext cx="8640720" cy="381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chievements – Ghan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synthesis on sustainable intensification of cereal-based farming systems in the Sudano-Sahelian zone of Ghana: Analysis of constraints and opportunities for the sustainable intensification of mixed crop-livestock farming systems in northern Ghan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iagnostic workshop to analyze constraints and opportunities of sustainable intensification of crop-livestock systems in Northern Ghana held in August 2012. The proceedings from the workshop is availabl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four day training course was organized on crop-livestock farming systems in Tamale, Ghana from 19 to 22 September, 2012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73 herdsmen, women and cattle owners were trained in milk hygiene practices in 3 districts of northern Ghana in 201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539280" y="907560"/>
            <a:ext cx="762012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Calibri"/>
              </a:rPr>
              <a:t>3. Mileston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TextBox 2"/>
          <p:cNvSpPr/>
          <p:nvPr/>
        </p:nvSpPr>
        <p:spPr>
          <a:xfrm>
            <a:off x="684360" y="1601640"/>
            <a:ext cx="8208720" cy="41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chievements – Ghan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325 processors were trained in ‘wagashi’ (soft cheese) processing in the 3 districts in Northern Ghana and 40 milk processors were introduced to rudiments of yoghurt processing in one district in 201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eed-health interventions for improved small ruminant production in 9 communities in 3 regions - increased weight gain, significant decline in mortality and increase in manure output from the treatment animals. More than 5,000 sheep and goats were vaccinated against PP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struction of 12 model houses for sheep and goat in 6 intervention communities in Northern Ghan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aseline studies on options to increase productivity of rural poultry and pig production systems, and feeding trials on use of non-conventional feed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raining on Feed Assessment Tool (FEAST) in Tamale in August 201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9T10:36:32Z</dcterms:created>
  <dc:creator>IZeledon</dc:creator>
  <dc:description/>
  <dc:language>en-US</dc:language>
  <cp:lastModifiedBy>Odhong, Jonathan (IITA)</cp:lastModifiedBy>
  <cp:lastPrinted>2011-10-06T11:45:23Z</cp:lastPrinted>
  <dcterms:modified xsi:type="dcterms:W3CDTF">2016-12-14T07:51:04Z</dcterms:modified>
  <cp:revision>80</cp:revision>
  <dc:subject/>
  <dc:title>Slide 1</dc:title>
</cp:coreProperties>
</file>